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ED6-D661-4FD4-B74E-0FCF6044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E0C-6938-44FD-BCC8-B2D2B84B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14FBF-700F-4A4F-AAE3-58603CA7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5039C-CB72-4EE9-B58C-694E2377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549BE-351B-4AC8-A103-08076361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DEB1D-832E-405F-AD28-65F3AB42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0879E-3B77-4088-9F28-7B0DA427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8530C-335B-412C-9F8C-29732482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89F6E-7137-412D-9D8E-D7DDEF11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69CCC-775E-4A21-8E72-425DB15F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353F4-0F7E-4D27-B1D1-2C4BD47B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F1903-AA2D-43E5-B291-5077C776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2F1-FB57-4380-B215-FDF05163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B8E6B-6C18-4335-BBDF-FE611281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6F80B-D202-4B17-9176-AB1DEC7A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15C29-2E62-4C90-AB35-0A608B50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70F00-02B0-447D-81CE-54A91A7F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EDFA3-2F16-428F-90C6-C39FA948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EC780-2C20-4BB8-83DE-BB66B270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B2221-8FCD-47BB-A48F-F730F3C4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8E3C8-FF12-4B4C-82BB-E2FDE04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D4D91-FA1E-4466-880E-CE07048A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BF5B6-728F-461D-AD4C-40A0BDDC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522-154B-4CD7-A7ED-7D7E0865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B7BCA-7B20-4DED-AA42-CDEF6599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75A8C-BB89-4343-AEBC-7240C928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6EE32-6FE8-4108-BA2A-1E33DBEB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4F49E-6ACD-4312-8984-2F116434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B6A22-0551-43F0-B7A6-CE81E073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497B7-5970-4F69-8B96-E9CBE05A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512C4-A582-471D-93F4-EAC74753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9415F-A3CD-4993-B8E4-DD241746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556E2-FDB4-4D0C-9472-B3CB8425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9F1CE-9724-421C-82F0-E8976029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AF16-EFA7-496B-AA6D-9FB0B56F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2730E-443A-410D-9DA1-CF95394D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A99BD-35E9-46D0-A605-EFFE8FD4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5D692-BCAD-4449-8FF9-C95335BC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7F3E7-3F3F-44F2-BCD4-0974CBDD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294B8-8B22-486A-A3EB-9BF4C782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EF20F-C4A3-4EA7-A308-84872A15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3FDB7-F77A-4125-9B8F-05024120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6911C-61B3-4EEA-8BEF-206F9493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E9447-E3A4-47F7-8EC3-F26CFDD0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EE950-F056-40E5-97CE-BEA4B462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E704-572A-4FB3-9BE1-80423618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6010A-C7BC-4CDD-929E-8F462CA1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48E7F-6A8A-4F4E-9FA3-3D878062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7BD28-B538-4043-909F-5CD6FD5E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A4985-7FEB-4347-84F4-AD4B0C93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21742-AE91-4093-A020-D9F37833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A25D9-4B0C-4AFC-BB6C-BF328F0E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161EB-BB45-490C-BC9F-255EA0A4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859D6-B100-4BAF-A05F-7CD28372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ED581-CE26-43EE-8CFD-3F1554E7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0826C-CB4D-4CE2-8900-759CA10D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5C00-00B5-4F3E-BA64-D37C5F08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9FDEF-00BE-4109-AD2F-10968AD4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DAAA1-875A-4CEE-B45D-D922CDA2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1549B-6B5F-4835-AB4A-08C1F0BC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28646-5B8A-4FC3-9A6A-F75429A2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EA0D6-8A29-482C-B56D-4C38462C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5A268-A738-4BA4-A52E-B7EDC3CF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501CD9-A4CD-4455-A29E-82E76D7C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FACEB-3271-4059-A572-0CE1917D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24312-DB97-4E8D-B093-5C2665E1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D34AE-090F-4DBC-AA17-0F7E0B27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1170-95F5-4C34-B586-5B7BB52E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C8BB9-9E6A-4C95-96CB-54A3DD35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A86753-6078-4139-B2D3-61250FEA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B978FA-2A81-4025-BCFA-FF7B3924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4D1CB-13E2-4630-BB9F-B129E48F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EE224-24BE-477A-A342-E347E26A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11A40-6D40-4E59-970F-1C0F0A93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AEC2C-C3E5-411C-A69C-E866E0A5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9A197-0BEB-445D-8074-37D264E5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E582E-B381-4541-B37E-146309FE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8AEC9-D804-4997-B8E7-5CDF55C4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41B8-0B6C-410F-AF48-35CB6A36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07AD9-5737-467D-82ED-A9981EE1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701CD-3733-4A14-AE7D-EE1647D5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1131D-328B-44B9-8830-9D4A0E75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A174A-9A5E-4CF4-BF09-4F3679B9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38D4A-1644-4A66-A38E-BE10B9A1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6D8882-2394-46DF-B0B4-C52CA598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9DEED-8200-41FA-85C0-FF48634A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09A07-4A93-42BF-98FE-A3A9525C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A4D3B-2711-4A59-A565-19AF7430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71B675-5608-4D3F-ABCB-32E8ABFB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D945-0BE2-4644-8814-E76AC13D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C690A-64BA-467E-A4C5-4937120E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76021-7339-4D7C-899C-43A51B7C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0B9B4-5293-4165-80CF-3BCA7E0C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6E64A-5E3B-4A44-9C23-3D0B8D62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E52E1-3F03-4D7C-94B4-DABEF68F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0F1249-2074-4C67-8159-09F2BBA9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12481-1298-4044-B66E-DC89890D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E5BA07-C149-4455-A04B-C60AF5E3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C33748-7C62-44F5-B233-70F855CA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4EBE1-94DB-467A-B757-D9348AD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0651-EFED-4A0C-A1D3-C949FEB7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6F6FC4-4945-46D6-9B10-41EBCD75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05055-94E1-4A33-8CEC-2D7235D0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BD43B-83D1-4FB2-93D0-931A0726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C8516D-25BF-4046-B4F4-0D69B943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0C7E1-6AD2-4A8D-A147-4F32855F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4424A-4C43-491A-AA05-EB0274C5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9D603D-422D-4540-82D3-6A12F88C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CD65A-3423-456D-9560-DAA7F587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4F5CA-9C57-4225-9EE5-684C58E3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416E2-7268-4A82-8F42-A6045C7A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C34-1945-4C15-AADF-5F3CBE03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B1B8-8A90-44AE-8C63-BCA37CBE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988BB-2D9C-41AC-B0EA-E1C459B4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F3B7D8-EFBF-4826-A6C7-B30E76B2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E2064-7B76-4BCB-ADA9-8F948A8D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22194-999F-4273-9200-940F5DD7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84460-08B7-4527-8FDC-21FA1817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CFF6A-5314-43E1-8C6D-B592AE05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A60C8-6FEE-4B5D-B385-6A8ACB58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2E14E-C604-44EF-A683-DE42B643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68845-D830-4A1A-B842-14C61178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F93C8F-8848-41A1-B89E-96642D40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0500-CAE5-4896-A2E7-312D32EF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DE8EB-A150-436F-973E-C9200D44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1FFEC6-B745-498A-911E-41852790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3DF2B-98E6-49EB-9975-6B35AA71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81BAC9-0421-47C9-861B-ABAE7A5C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312F0A-1866-48E2-838C-9588321E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CDD46D-1CB7-440D-85D6-90F1CCE0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EE8AE-6242-494F-8D15-DAEE3A0E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59AC58-2117-4F6F-A6F5-46530D87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C68DFF-09AF-42A6-9F5A-14D03FBD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15DF9-8751-4C38-9E14-A0DB858B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C97D-F5D2-42D5-AF69-5ED2C334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7EDCA6-FFF7-47B9-A655-5C0061BD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3831D-3891-49AD-86DA-790AF562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186BF1-E58D-442E-A959-78910A95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B7936F-22F3-4D1B-A600-865B4259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D5709F-943C-44C6-B832-0FE220FD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61D7E5-118A-4FCB-AD9D-D97C6E09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A0A240-6FEF-4148-AB7A-34232F80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E11265-2AAD-4E64-8876-6A514ED1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9E14F6-19FA-4B2C-84A6-5C6E6FC9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2503EC-9419-408A-A563-458D3C7E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2AE3-1529-495D-AF7D-03668DEA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314086-7B19-4C6C-BDED-D905F39B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9710C9-6E34-4C75-9F51-19AD87EF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2F6939-9FE9-4FF3-A740-C34AEF16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62319D-DEE3-444C-9309-C23270BD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A9B8A-8DBA-4C6B-BF48-2345C9CF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D31A28-341A-4FCB-9FD5-59D50514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A19453-B4D3-4FD1-960B-EBBED1F5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33260F-3E04-4911-91D3-93555D28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FCD772-C1B5-4304-B64E-4563B9D7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846DA3-CA04-4679-B751-06561A7E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0BCC-A2BF-466E-9B72-014A41A0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7D0F2-BE29-4889-98BB-EF5220D1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9D0EF-CE89-41E6-A4BE-E43AA256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8EBB16-23FD-49DF-A74C-D39703CB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4E30F0-2986-4B36-812D-83C4FE0D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557319-46DB-4DFB-A718-F1F6DC93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77524-EEAE-4ECC-B740-440A6492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AA7076-7074-4E01-A285-84E0327B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4BFE70-E5C3-4A68-A5E7-8FC6803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D99060-54DE-47DC-8C6C-999A4F97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2D001F-C7E1-473B-953F-64A1F4D1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6F90-B0FC-40C0-BA10-F3B550AB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0925C2-4156-4363-B4C3-76D10D16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8F3200-FD20-40D4-A791-D712133E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477683-1523-4A9E-9B8E-B3CD7FDF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A4EB9C-471B-4297-86E6-716A99FA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454828-0875-4A97-814B-5A96BDAB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881753-98D0-4B56-B24F-E7D55642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BD1832-D344-4501-B11F-AA616864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F5B0F8-E362-401A-A878-4092EC85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D37346-E27A-4844-9DFD-9DDA5348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B7450E-90EB-4BA4-8FE8-7D69A86F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8266E-D7CD-4906-B098-3F446BF9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F60A77-003B-4442-85A9-5C995B16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D2EB03-7510-42C5-A851-1848EB29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4F236D-0F28-4BA8-A773-582F92E0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8604C8-E852-4803-AF13-1D42AEFC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436D0A-162C-4F46-B935-C542FBBA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3B50E8-5636-447E-B13A-F954B6B2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F4CE6F-5C43-43C2-B535-0A4C1D0D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5D5651-8361-4711-ABC7-5B9CA770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890356-84BF-4434-9853-3926FC1F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C8E953-A7BC-4C07-8D92-03D96954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08CA-0F8B-4BE1-ACC2-CB44838D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0925EF-2D1E-45AB-8C60-BCF9C6F0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EEC36D-E734-4495-BD58-3CA45BA3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E5223F-B974-4572-A4FC-DA64A07D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CC5FC9-65A4-4313-9F81-A4525AAA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77A96B-4C11-491A-8F9D-CF84543A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296963-8677-4FA6-B7B4-AF45099B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788EE2-6D6B-426C-87C9-286CEEB0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FF089-4852-4952-B344-FB66B223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F4C3-D789-4126-B174-F1D257D3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F71-CAF6-433C-9332-984C9A59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0B1F-AB63-40D8-B51A-53ED7DE5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298B-F7B0-4F24-B93C-117D848A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2366-422F-421C-A53C-2885C6AB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A5CA-EB01-472D-BC7A-3B837775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89E0-0081-4E14-92F7-2F58B338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22AA-C335-494F-8338-95BB45F9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4A3EC-DDB2-478B-AA7E-0E1C12A3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B6FA-110D-4D09-8ED3-44149DFD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D1628-37F9-4D88-9605-7049CF72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DCF96-6F3B-4FCE-8FEA-19D88B44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3EE-9341-45A3-99DB-33695985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1FC54-7CA6-4619-84A9-698F632A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4CB22-5C5B-4C68-A8AD-0857B7B8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FE24D-9AD3-4FE4-A814-16BE2462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6946-55FA-4995-8CDE-CDC9B25E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3B40A-BF64-43F2-BCD1-43B7BA5D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F292-FD5A-4562-A337-6636E3B5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70D2-A682-47D2-8D34-D745056A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18BD3-3679-4BDD-930C-0015AC20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51F5-8112-40FC-AAC1-898AFE2A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45755-363C-4DC6-B1B0-BA823C76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38F-A27C-4D4F-8DC6-02005D67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FF3F3-1034-4DB6-A32E-E47812B5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D5314-7DA8-4E2F-892E-C0EC9A0F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D9712-28CE-4858-A75A-FAD8F473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2214D-0FEF-471E-B909-FECB58F8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53801-9F88-470E-A943-063F427C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B0D72-286C-411B-9AC7-A6E97B84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8F24A-0575-4690-8C0B-D16F95F4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1752C-4B09-4450-AF4C-958D0D1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EBE93-0100-406A-B410-FF24E24D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204C-24BA-49C0-9E74-972E4E7D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EED-81AF-4685-88B5-CEA11ABB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E0AE5-D535-45CE-881B-70486E01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0A32F-7B7F-4496-B5FD-E067D4F6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D741C-1BA3-41C2-BED7-1B6D421C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70D17-2EC2-4305-90C1-1D9017FD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132AC-13AC-4535-962D-40604964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B338A-5988-4020-AC2F-53CB56E5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29747-3814-402E-84F3-96721C49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3ED28-CE2F-4E15-98E9-30FBFC35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15B33-34D4-4488-89E4-65B427CD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10AD6-1AE3-4BDE-AF76-0FC64E7D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24B-4B3C-4695-B8CD-30C1598B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7102E-B50B-43B1-98B4-0AE3E8C2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9F333-FD8F-4CB2-A4BD-57D69416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4CB80-207A-4CA9-BA19-FD9F33E7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98594-7506-4A62-8A4A-764F753E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5EDBF-0372-413E-9F47-B9AFE04D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ADAA7-7064-48ED-AFF3-D701B9BD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B8137-8D22-4DCD-A0A9-CB8CF817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A384A-2CBF-4077-85A6-2B44E213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52D9A-58BA-444F-8C5D-24A52867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0C9B5-D869-48E4-830D-B42A7D4E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8C5-90F9-4A0A-AA79-1C5B921B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F88DA-F066-492A-B284-7963CE29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2B5D3-19D7-478D-B813-FEAC36BF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FDE63-1B67-45FB-A5AC-5460E8EA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F31B1-BAE5-4795-9118-972CFA5A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A6E7E-E988-4D9A-A916-42EDEAD0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8E8B2-1105-41E5-8601-ABB02C2A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04420-7908-44E3-9709-20F206D7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1C775-A1BB-4DDB-BF9B-4FB771D6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5A18B-AC1D-4B72-A29F-57DFD653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CE960-149F-43FF-B86E-EFE5CA85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7F1-59A8-4CA8-8D1C-D88D8D06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345BE-EC94-4106-9619-AB2F53E7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1A554-0D2F-4BA4-BD75-EE5E56C3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79412-2C59-461D-962E-5B29FD9F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A47B0-5E93-461B-991B-24A42023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48932-08B1-47D0-BC87-88358875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F79CD-AE6E-46C1-97BB-A78C625C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FC465-6663-4234-9826-62CA045E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2026F-A367-45ED-A772-0BD407F5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517E0-C79F-423F-AAB9-2C240976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52A50-94DA-4F0C-97FD-6A8AAB1B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FFBF-D881-48FC-981E-458362E75D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2F23-7D7F-4B38-A229-5038EE2936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EBF0-C5CA-4AB0-BE39-CA2DEA3147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1411-92FC-4DD7-B32E-DC19E4B0AF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E18E-7904-4DD9-A6BA-4AF251B0FE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0D4E-DA51-4B4D-8180-53ADEE549B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7C4B-492C-4183-A455-18A5A792E0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0A6D-B5D2-468A-85B8-5BB525EFC9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5663-08BD-49FA-BF40-25E899194C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BE83-080D-4BD1-8F11-5745576D72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761F-B14B-4B50-A55A-678B73CD89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0D64-039F-48A7-8CFA-3FDBE0D909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4DFC-6DD6-4BD4-A54E-1C89E1A3B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43CA-6234-40CC-80D9-C26D9C691C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6CF1-30E8-4A16-A9BB-EB167F41B3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C496-061D-4450-A3BF-BBEB6DF06F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C592-AB81-49EA-91FF-B65ECC48F4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4224-40B7-4123-86CA-9B34C8384A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D5C8-5612-450B-B268-E014C5614F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9E46-A8DD-43A3-8262-0DFCB20551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D887-D9A8-4767-A5A0-8DE468B693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4706-4B56-4748-99FE-69B23F936F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3B88-B5AB-4498-B53A-96F8B41E4A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7AAB-D448-4F82-9F01-5A0EBDB5C7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486E-DF71-4D13-A4DD-2388365C5C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4D70-7A2F-497D-AD1F-F0A4D8C4DC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97C9-4217-49F3-83C1-40CD405A11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C072-6C35-4D93-8EE0-679F2D51E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9DFC-691C-44CD-AE9E-30F6984358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18AF-E62E-4EA8-A0E3-D552324EA9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4121-3446-463B-A333-BF17E34257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DFFA-3444-45E0-A36D-5C670BB563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C72D-BA8A-438D-B173-332DF47B4E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3E21-1935-4C86-AF08-BC761B6CBC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584C-A5C8-4894-88FD-6FA125C405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2F6A-A236-4CFD-BFD7-80F5ECC4B5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50C3-20BE-4C20-A0C0-13A6DB4013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69D3-EF9B-41AC-84B9-57664F3C50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18F7-7219-4157-AE68-81593F1F11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2FCF-95AB-4559-9AC9-1372FBFFE7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DECC-883F-42B7-AF54-A23B694A4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C6C6-BBAC-49A2-98D8-E2CE1F140F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747720" y="2171880"/>
            <a:ext cx="80582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65240" y="812880"/>
            <a:ext cx="1780920" cy="39060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114480" y="1203480"/>
            <a:ext cx="8915400" cy="231444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3"/>
          <a:stretch/>
        </p:blipFill>
        <p:spPr>
          <a:xfrm>
            <a:off x="165240" y="3616200"/>
            <a:ext cx="7486560" cy="195264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4" descr=""/>
          <p:cNvPicPr/>
          <p:nvPr/>
        </p:nvPicPr>
        <p:blipFill>
          <a:blip r:embed="rId4"/>
          <a:stretch/>
        </p:blipFill>
        <p:spPr>
          <a:xfrm>
            <a:off x="165240" y="5715000"/>
            <a:ext cx="7770600" cy="10857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95280" y="1197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237816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395280" y="3645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395280" y="4869000"/>
            <a:ext cx="360360" cy="2934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9"/>
          <a:stretch/>
        </p:blipFill>
        <p:spPr>
          <a:xfrm>
            <a:off x="395280" y="5705640"/>
            <a:ext cx="36036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504720" y="2252520"/>
            <a:ext cx="8134560" cy="23529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2700360" y="2627280"/>
            <a:ext cx="71928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2268360" y="3030480"/>
            <a:ext cx="115128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1692360" y="3429000"/>
            <a:ext cx="1150920" cy="2937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4211640" y="3808440"/>
            <a:ext cx="1150920" cy="2937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1763640" y="4221000"/>
            <a:ext cx="8636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299880" y="1531800"/>
            <a:ext cx="7382160" cy="149544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2" descr=""/>
          <p:cNvPicPr/>
          <p:nvPr/>
        </p:nvPicPr>
        <p:blipFill>
          <a:blip r:embed="rId2"/>
          <a:stretch/>
        </p:blipFill>
        <p:spPr>
          <a:xfrm>
            <a:off x="406440" y="3186000"/>
            <a:ext cx="6218280" cy="150516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3" descr=""/>
          <p:cNvPicPr/>
          <p:nvPr/>
        </p:nvPicPr>
        <p:blipFill>
          <a:blip r:embed="rId3"/>
          <a:stretch/>
        </p:blipFill>
        <p:spPr>
          <a:xfrm>
            <a:off x="6819840" y="2962440"/>
            <a:ext cx="2171880" cy="19526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4"/>
          <a:stretch/>
        </p:blipFill>
        <p:spPr>
          <a:xfrm>
            <a:off x="2195640" y="1897200"/>
            <a:ext cx="792000" cy="2934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5"/>
          <a:stretch/>
        </p:blipFill>
        <p:spPr>
          <a:xfrm>
            <a:off x="1293840" y="2286000"/>
            <a:ext cx="1368360" cy="2937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6"/>
          <a:stretch/>
        </p:blipFill>
        <p:spPr>
          <a:xfrm>
            <a:off x="2124000" y="2674800"/>
            <a:ext cx="792360" cy="2937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7"/>
          <a:stretch/>
        </p:blipFill>
        <p:spPr>
          <a:xfrm>
            <a:off x="3030480" y="3943440"/>
            <a:ext cx="792360" cy="2937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8"/>
          <a:stretch/>
        </p:blipFill>
        <p:spPr>
          <a:xfrm>
            <a:off x="5292720" y="4340160"/>
            <a:ext cx="10796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1062000" y="1214280"/>
            <a:ext cx="7020000" cy="44294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3708360" y="199872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4"/>
          <a:stretch/>
        </p:blipFill>
        <p:spPr>
          <a:xfrm>
            <a:off x="6372360" y="200340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5"/>
          <a:stretch/>
        </p:blipFill>
        <p:spPr>
          <a:xfrm>
            <a:off x="3924360" y="2781360"/>
            <a:ext cx="2232000" cy="2937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6"/>
          <a:stretch/>
        </p:blipFill>
        <p:spPr>
          <a:xfrm>
            <a:off x="6948360" y="27813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7"/>
          <a:stretch/>
        </p:blipFill>
        <p:spPr>
          <a:xfrm>
            <a:off x="1835280" y="3583080"/>
            <a:ext cx="2808000" cy="2937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8"/>
          <a:stretch/>
        </p:blipFill>
        <p:spPr>
          <a:xfrm>
            <a:off x="1403280" y="4375080"/>
            <a:ext cx="2808360" cy="2937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9"/>
          <a:stretch/>
        </p:blipFill>
        <p:spPr>
          <a:xfrm>
            <a:off x="1979640" y="5157720"/>
            <a:ext cx="25923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1:3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